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B67-9A2A-4BE0-9564-619F95A9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79F-3E90-48C0-85A7-EB39AA7F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C54-FA0B-4776-B0DB-04EB0C5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72C-1246-4280-84A7-BAB0324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D8C-9F63-445C-B77B-4B619CD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FBB-306C-4DFA-B59E-58D25ED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B87-4C3D-4904-B176-D8D8125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077-F015-452B-A890-95F3B741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D7D-C339-448A-83FD-2CE93245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7F6-358E-448B-B072-300C21B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1DD-5E5A-48F9-9F5B-EAD52FF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1C8-FE99-489E-89D7-4EC6985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D130-8911-430C-9362-CB544A98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day in my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Jack Lupton 7C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Caravan in Pembrokesh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629800">
            <a:off x="468360" y="1916280"/>
            <a:ext cx="4464000" cy="28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1018800">
            <a:off x="4356000" y="2997360"/>
            <a:ext cx="4367160" cy="272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0000" y="1484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 to my caravan every holiday except Christmas holidays and I really enjo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at 7.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ometimes have a shower after I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891400">
            <a:off x="4932000" y="3068640"/>
            <a:ext cx="2630520" cy="279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561600">
            <a:off x="826560" y="3357720"/>
            <a:ext cx="3095640" cy="214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breakfast at 7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831200">
            <a:off x="5435280" y="2565360"/>
            <a:ext cx="1800360" cy="18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9986000">
            <a:off x="1692000" y="2781000"/>
            <a:ext cx="2292120" cy="243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2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to school by 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ave my house at 8.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bad traffic I sometimes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988800">
            <a:off x="1042920" y="3789360"/>
            <a:ext cx="2664000" cy="263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1736640" cy="263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61939"/>
          <a:stretch/>
        </p:blipFill>
        <p:spPr>
          <a:xfrm rot="21346800">
            <a:off x="3924360" y="1267920"/>
            <a:ext cx="4680000" cy="29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4797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et to school at 8.35 am and then go into my tutor room. Then go into ou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 of 6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0697600">
            <a:off x="324000" y="3284280"/>
            <a:ext cx="2670120" cy="2431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19957800">
            <a:off x="2627280" y="620640"/>
            <a:ext cx="4176720" cy="277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33200">
            <a:off x="398160" y="1044360"/>
            <a:ext cx="194616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24360" y="5373720"/>
            <a:ext cx="29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 room and Mr Ess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414972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ICT on Wednesday and Thurs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678800">
            <a:off x="755280" y="2708280"/>
            <a:ext cx="3112920" cy="32781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0820000">
            <a:off x="5292360" y="2852280"/>
            <a:ext cx="2532240" cy="30909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492360" y="206064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maths block and sports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446400">
            <a:off x="825120" y="1857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maths on Monday,Tuesday,Thursday and Friday of week 1 and Monday, Thursday and Fri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088800">
            <a:off x="971640" y="9075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PE on Wednesday and Thursday on week 1 and Tuesday, Thursday and Fri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736720" cy="652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69920"/>
            <a:ext cx="2874960" cy="668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64000" y="141300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232000" cy="21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imar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rot="20874600">
            <a:off x="755640" y="2421000"/>
            <a:ext cx="3919680" cy="29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842400">
            <a:off x="4500360" y="1700280"/>
            <a:ext cx="4429080" cy="33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3640" y="57340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imary school was Fairfield School in Backwell. I had a brilliant 4 yea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9:38:14Z</dcterms:created>
  <dc:creator>8jacklupton</dc:creator>
  <dc:description/>
  <dc:language>en-US</dc:language>
  <cp:lastModifiedBy>8jacklupton</cp:lastModifiedBy>
  <dcterms:modified xsi:type="dcterms:W3CDTF">2008-11-12T10:39:43Z</dcterms:modified>
  <cp:revision>6</cp:revision>
  <dc:subject/>
  <dc:title>Slide 1</dc:title>
</cp:coreProperties>
</file>